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E50D-01BB-4252-A192-5391C560D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361F-A633-46CC-8B3D-C97185746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not appropriate in most classr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F581-3F62-4351-BB04-6DB73C91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0964-370B-4807-8E20-A84C5454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CDF6-0E58-4F99-ABA8-C6B4B88F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692E-8A11-49C1-9E5E-E3C22A9A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C1F4-C2B3-4BD9-ABEC-901FDE07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0E90-629B-4796-88AC-1DA16D80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38FD-942E-43BD-A901-6AB9A881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62C7-99A7-4878-85A6-8AF04EBA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C4E8-DF1A-491D-973D-D4512A8A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D982-1937-4159-9170-5751D5C2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8419-543D-41BC-B2B0-EF84E5A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5761-A97B-42E1-B98E-126A9D8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DE3D-E378-4D3D-9789-19EE607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994D-3395-4FC2-832F-91904AF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29B6-5199-4B5D-9E7D-3AE15AF5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38A8-C9F6-4CFE-AA08-B8C7894F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93FB-683C-4B53-9117-F9904436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216F-5A4A-40FE-BBA8-4FF60810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D06F-0798-4164-99D1-EAF4B8EC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E42E1-C668-4F89-859D-2AF11D18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5A84-08BA-4923-BAB3-B191141C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CF39-7512-48C5-B88D-4DD0BF3D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0AA5-72F9-4381-B05F-BE28D1B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FF75-58BC-4456-8F93-60B3DFB2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C897-347F-4F3E-8C8D-01E5EF70B4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07CA-9FBE-4FCA-9F2F-36DA64F85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752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imals in the Classroom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1600" t="4276" r="1600" b="6414"/>
          <a:stretch/>
        </p:blipFill>
        <p:spPr>
          <a:xfrm>
            <a:off x="5381640" y="4259160"/>
            <a:ext cx="37623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9810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y have live animals  in the classroom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oosing a Classroom Anima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800" y="2209680"/>
            <a:ext cx="338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erg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era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ntent Placeholder 2"/>
          <p:cNvSpPr/>
          <p:nvPr/>
        </p:nvSpPr>
        <p:spPr>
          <a:xfrm>
            <a:off x="1295280" y="2209680"/>
            <a:ext cx="2895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acher Responsibilitie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ingful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s and super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conce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lling resp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26:49Z</dcterms:created>
  <dc:creator>Cynthia Moore</dc:creator>
  <dc:description/>
  <dc:language>en-US</dc:language>
  <cp:lastModifiedBy>Cynthia J. Moore</cp:lastModifiedBy>
  <dcterms:modified xsi:type="dcterms:W3CDTF">2011-05-18T17:17:27Z</dcterms:modified>
  <cp:revision>27</cp:revision>
  <dc:subject/>
  <dc:title>Animals in the Classroom</dc:title>
</cp:coreProperties>
</file>